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178-597E-4E0F-A051-2E9F2985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125-127D-4388-9B71-10F33F3A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E9E-C87D-4338-A1F7-8ED168F4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14D-55BE-4DAE-8D51-24340D5A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339-C259-4DC8-B981-3152B0B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AA5-DD89-468A-90C8-9582E30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A05-6C31-424F-93B8-F122457B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039-4CCE-4EA7-B6D8-2CB3CF54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F69-8974-43A7-A97D-4285ADDA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600-636A-4A20-A1B4-300BD70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43C-1173-40FF-A7EC-81C6B3E1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10C-83C0-48A9-A78E-5F45A1DD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9ABB-A6FE-4CF6-91C1-76299B33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30520" y="17733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411280" y="2492280"/>
              <a:ext cx="1224000" cy="73620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108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825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7880" y="198288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1840" y="43099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44" t="0" r="0" b="0"/>
          <a:stretch/>
        </p:blipFill>
        <p:spPr>
          <a:xfrm>
            <a:off x="4397400" y="1484280"/>
            <a:ext cx="4422600" cy="4276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076720" y="2830680"/>
            <a:ext cx="3565800" cy="1800000"/>
          </a:xfrm>
          <a:custGeom>
            <a:avLst/>
            <a:gdLst/>
            <a:ahLst/>
            <a:rect l="l" t="t" r="r" b="b"/>
            <a:pathLst>
              <a:path w="2246" h="1165">
                <a:moveTo>
                  <a:pt x="0" y="425"/>
                </a:moveTo>
                <a:cubicBezTo>
                  <a:pt x="11" y="451"/>
                  <a:pt x="22" y="478"/>
                  <a:pt x="45" y="516"/>
                </a:cubicBezTo>
                <a:cubicBezTo>
                  <a:pt x="68" y="554"/>
                  <a:pt x="107" y="605"/>
                  <a:pt x="136" y="652"/>
                </a:cubicBezTo>
                <a:cubicBezTo>
                  <a:pt x="165" y="699"/>
                  <a:pt x="186" y="746"/>
                  <a:pt x="218" y="797"/>
                </a:cubicBezTo>
                <a:cubicBezTo>
                  <a:pt x="250" y="848"/>
                  <a:pt x="281" y="911"/>
                  <a:pt x="326" y="961"/>
                </a:cubicBezTo>
                <a:cubicBezTo>
                  <a:pt x="371" y="1011"/>
                  <a:pt x="442" y="1065"/>
                  <a:pt x="486" y="1097"/>
                </a:cubicBezTo>
                <a:cubicBezTo>
                  <a:pt x="530" y="1129"/>
                  <a:pt x="549" y="1142"/>
                  <a:pt x="589" y="1151"/>
                </a:cubicBezTo>
                <a:cubicBezTo>
                  <a:pt x="629" y="1160"/>
                  <a:pt x="675" y="1165"/>
                  <a:pt x="725" y="1151"/>
                </a:cubicBezTo>
                <a:cubicBezTo>
                  <a:pt x="775" y="1137"/>
                  <a:pt x="852" y="1092"/>
                  <a:pt x="890" y="1069"/>
                </a:cubicBezTo>
                <a:cubicBezTo>
                  <a:pt x="928" y="1046"/>
                  <a:pt x="926" y="1039"/>
                  <a:pt x="952" y="1015"/>
                </a:cubicBezTo>
                <a:cubicBezTo>
                  <a:pt x="978" y="991"/>
                  <a:pt x="1007" y="973"/>
                  <a:pt x="1043" y="924"/>
                </a:cubicBezTo>
                <a:cubicBezTo>
                  <a:pt x="1079" y="875"/>
                  <a:pt x="1128" y="781"/>
                  <a:pt x="1166" y="721"/>
                </a:cubicBezTo>
                <a:cubicBezTo>
                  <a:pt x="1204" y="661"/>
                  <a:pt x="1238" y="610"/>
                  <a:pt x="1270" y="561"/>
                </a:cubicBezTo>
                <a:cubicBezTo>
                  <a:pt x="1302" y="512"/>
                  <a:pt x="1325" y="479"/>
                  <a:pt x="1360" y="425"/>
                </a:cubicBezTo>
                <a:cubicBezTo>
                  <a:pt x="1395" y="371"/>
                  <a:pt x="1442" y="288"/>
                  <a:pt x="1482" y="237"/>
                </a:cubicBezTo>
                <a:cubicBezTo>
                  <a:pt x="1522" y="186"/>
                  <a:pt x="1550" y="158"/>
                  <a:pt x="1598" y="121"/>
                </a:cubicBezTo>
                <a:cubicBezTo>
                  <a:pt x="1646" y="84"/>
                  <a:pt x="1733" y="34"/>
                  <a:pt x="1769" y="17"/>
                </a:cubicBezTo>
                <a:cubicBezTo>
                  <a:pt x="1805" y="0"/>
                  <a:pt x="1799" y="17"/>
                  <a:pt x="1814" y="17"/>
                </a:cubicBezTo>
                <a:cubicBezTo>
                  <a:pt x="1829" y="17"/>
                  <a:pt x="1844" y="17"/>
                  <a:pt x="1859" y="17"/>
                </a:cubicBezTo>
                <a:cubicBezTo>
                  <a:pt x="1874" y="17"/>
                  <a:pt x="1876" y="3"/>
                  <a:pt x="1905" y="17"/>
                </a:cubicBezTo>
                <a:cubicBezTo>
                  <a:pt x="1934" y="31"/>
                  <a:pt x="1995" y="68"/>
                  <a:pt x="2030" y="101"/>
                </a:cubicBezTo>
                <a:cubicBezTo>
                  <a:pt x="2065" y="134"/>
                  <a:pt x="2090" y="182"/>
                  <a:pt x="2114" y="213"/>
                </a:cubicBezTo>
                <a:cubicBezTo>
                  <a:pt x="2138" y="244"/>
                  <a:pt x="2156" y="261"/>
                  <a:pt x="2174" y="289"/>
                </a:cubicBezTo>
                <a:cubicBezTo>
                  <a:pt x="2192" y="317"/>
                  <a:pt x="2210" y="361"/>
                  <a:pt x="2222" y="380"/>
                </a:cubicBezTo>
                <a:cubicBezTo>
                  <a:pt x="2234" y="399"/>
                  <a:pt x="2241" y="400"/>
                  <a:pt x="2246" y="4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91628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3635640" cy="231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3156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5440" y="1989000"/>
            <a:ext cx="96264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640120" y="3557520"/>
            <a:ext cx="953280" cy="1022400"/>
            <a:chOff x="5640120" y="3557520"/>
            <a:chExt cx="953280" cy="1022400"/>
          </a:xfrm>
        </p:grpSpPr>
        <p:sp>
          <p:nvSpPr>
            <p:cNvPr id="153" name=""/>
            <p:cNvSpPr/>
            <p:nvPr/>
          </p:nvSpPr>
          <p:spPr>
            <a:xfrm>
              <a:off x="6084720" y="4005360"/>
              <a:ext cx="0" cy="574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0120" y="355752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667560" y="4076280"/>
            <a:ext cx="1752120" cy="865440"/>
            <a:chOff x="6667560" y="4076280"/>
            <a:chExt cx="1752120" cy="865440"/>
          </a:xfrm>
        </p:grpSpPr>
        <p:sp>
          <p:nvSpPr>
            <p:cNvPr id="156" name=""/>
            <p:cNvSpPr/>
            <p:nvPr/>
          </p:nvSpPr>
          <p:spPr>
            <a:xfrm>
              <a:off x="6667560" y="4573440"/>
              <a:ext cx="175212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lbChiSys s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02000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45164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36320" y="90792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316" t="0" r="0" b="0"/>
          <a:stretch/>
        </p:blipFill>
        <p:spPr>
          <a:xfrm>
            <a:off x="2124000" y="1268280"/>
            <a:ext cx="547236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720" y="400536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ans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951280" y="1549440"/>
            <a:ext cx="4429080" cy="3463920"/>
            <a:chOff x="2951280" y="1549440"/>
            <a:chExt cx="4429080" cy="3463920"/>
          </a:xfrm>
        </p:grpSpPr>
        <p:sp>
          <p:nvSpPr>
            <p:cNvPr id="164" name=""/>
            <p:cNvSpPr/>
            <p:nvPr/>
          </p:nvSpPr>
          <p:spPr>
            <a:xfrm>
              <a:off x="3564000" y="2133720"/>
              <a:ext cx="5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2720" y="1936800"/>
              <a:ext cx="11437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te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4000" y="2682720"/>
              <a:ext cx="576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82000" y="2486160"/>
              <a:ext cx="115776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ect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1280" y="2852640"/>
              <a:ext cx="4429080" cy="2160720"/>
            </a:xfrm>
            <a:custGeom>
              <a:avLst/>
              <a:gdLst/>
              <a:ahLst/>
              <a:rect l="l" t="t" r="r" b="b"/>
              <a:pathLst>
                <a:path w="2246" h="1165">
                  <a:moveTo>
                    <a:pt x="0" y="425"/>
                  </a:moveTo>
                  <a:cubicBezTo>
                    <a:pt x="11" y="451"/>
                    <a:pt x="22" y="478"/>
                    <a:pt x="45" y="516"/>
                  </a:cubicBezTo>
                  <a:cubicBezTo>
                    <a:pt x="68" y="554"/>
                    <a:pt x="107" y="605"/>
                    <a:pt x="136" y="652"/>
                  </a:cubicBezTo>
                  <a:cubicBezTo>
                    <a:pt x="165" y="699"/>
                    <a:pt x="186" y="746"/>
                    <a:pt x="218" y="797"/>
                  </a:cubicBezTo>
                  <a:cubicBezTo>
                    <a:pt x="250" y="848"/>
                    <a:pt x="281" y="911"/>
                    <a:pt x="326" y="961"/>
                  </a:cubicBezTo>
                  <a:cubicBezTo>
                    <a:pt x="371" y="1011"/>
                    <a:pt x="442" y="1065"/>
                    <a:pt x="486" y="1097"/>
                  </a:cubicBezTo>
                  <a:cubicBezTo>
                    <a:pt x="530" y="1129"/>
                    <a:pt x="549" y="1142"/>
                    <a:pt x="589" y="1151"/>
                  </a:cubicBezTo>
                  <a:cubicBezTo>
                    <a:pt x="629" y="1160"/>
                    <a:pt x="675" y="1165"/>
                    <a:pt x="725" y="1151"/>
                  </a:cubicBezTo>
                  <a:cubicBezTo>
                    <a:pt x="775" y="1137"/>
                    <a:pt x="852" y="1092"/>
                    <a:pt x="890" y="1069"/>
                  </a:cubicBezTo>
                  <a:cubicBezTo>
                    <a:pt x="928" y="1046"/>
                    <a:pt x="926" y="1039"/>
                    <a:pt x="952" y="1015"/>
                  </a:cubicBezTo>
                  <a:cubicBezTo>
                    <a:pt x="978" y="991"/>
                    <a:pt x="1007" y="973"/>
                    <a:pt x="1043" y="924"/>
                  </a:cubicBezTo>
                  <a:cubicBezTo>
                    <a:pt x="1079" y="875"/>
                    <a:pt x="1128" y="781"/>
                    <a:pt x="1166" y="721"/>
                  </a:cubicBezTo>
                  <a:cubicBezTo>
                    <a:pt x="1204" y="661"/>
                    <a:pt x="1238" y="610"/>
                    <a:pt x="1270" y="561"/>
                  </a:cubicBezTo>
                  <a:cubicBezTo>
                    <a:pt x="1302" y="512"/>
                    <a:pt x="1325" y="479"/>
                    <a:pt x="1360" y="425"/>
                  </a:cubicBezTo>
                  <a:cubicBezTo>
                    <a:pt x="1395" y="371"/>
                    <a:pt x="1442" y="288"/>
                    <a:pt x="1482" y="237"/>
                  </a:cubicBezTo>
                  <a:cubicBezTo>
                    <a:pt x="1522" y="186"/>
                    <a:pt x="1550" y="158"/>
                    <a:pt x="1598" y="121"/>
                  </a:cubicBezTo>
                  <a:cubicBezTo>
                    <a:pt x="1646" y="84"/>
                    <a:pt x="1733" y="34"/>
                    <a:pt x="1769" y="17"/>
                  </a:cubicBezTo>
                  <a:cubicBezTo>
                    <a:pt x="1805" y="0"/>
                    <a:pt x="1799" y="17"/>
                    <a:pt x="1814" y="17"/>
                  </a:cubicBezTo>
                  <a:cubicBezTo>
                    <a:pt x="1829" y="17"/>
                    <a:pt x="1844" y="17"/>
                    <a:pt x="1859" y="17"/>
                  </a:cubicBezTo>
                  <a:cubicBezTo>
                    <a:pt x="1874" y="17"/>
                    <a:pt x="1876" y="3"/>
                    <a:pt x="1905" y="17"/>
                  </a:cubicBezTo>
                  <a:cubicBezTo>
                    <a:pt x="1934" y="31"/>
                    <a:pt x="1995" y="68"/>
                    <a:pt x="2030" y="101"/>
                  </a:cubicBezTo>
                  <a:cubicBezTo>
                    <a:pt x="2065" y="134"/>
                    <a:pt x="2090" y="182"/>
                    <a:pt x="2114" y="213"/>
                  </a:cubicBezTo>
                  <a:cubicBezTo>
                    <a:pt x="2138" y="244"/>
                    <a:pt x="2156" y="261"/>
                    <a:pt x="2174" y="289"/>
                  </a:cubicBezTo>
                  <a:cubicBezTo>
                    <a:pt x="2192" y="317"/>
                    <a:pt x="2210" y="361"/>
                    <a:pt x="2222" y="380"/>
                  </a:cubicBezTo>
                  <a:cubicBezTo>
                    <a:pt x="2234" y="399"/>
                    <a:pt x="2241" y="400"/>
                    <a:pt x="2246" y="405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4000" y="1746360"/>
              <a:ext cx="576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82720" y="1549440"/>
              <a:ext cx="95328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81400" y="1305000"/>
            <a:ext cx="438120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59280" y="3357720"/>
            <a:ext cx="3600360" cy="855360"/>
          </a:xfrm>
          <a:custGeom>
            <a:avLst/>
            <a:gdLst/>
            <a:ahLst/>
            <a:rect l="l" t="t" r="r" b="b"/>
            <a:pathLst>
              <a:path w="3328" h="539">
                <a:moveTo>
                  <a:pt x="0" y="30"/>
                </a:moveTo>
                <a:cubicBezTo>
                  <a:pt x="36" y="42"/>
                  <a:pt x="70" y="58"/>
                  <a:pt x="104" y="74"/>
                </a:cubicBezTo>
                <a:cubicBezTo>
                  <a:pt x="138" y="90"/>
                  <a:pt x="170" y="101"/>
                  <a:pt x="204" y="126"/>
                </a:cubicBezTo>
                <a:cubicBezTo>
                  <a:pt x="238" y="151"/>
                  <a:pt x="275" y="191"/>
                  <a:pt x="308" y="222"/>
                </a:cubicBezTo>
                <a:cubicBezTo>
                  <a:pt x="341" y="253"/>
                  <a:pt x="370" y="282"/>
                  <a:pt x="404" y="310"/>
                </a:cubicBezTo>
                <a:cubicBezTo>
                  <a:pt x="438" y="338"/>
                  <a:pt x="477" y="365"/>
                  <a:pt x="512" y="390"/>
                </a:cubicBezTo>
                <a:cubicBezTo>
                  <a:pt x="547" y="415"/>
                  <a:pt x="564" y="439"/>
                  <a:pt x="612" y="462"/>
                </a:cubicBezTo>
                <a:cubicBezTo>
                  <a:pt x="660" y="485"/>
                  <a:pt x="741" y="513"/>
                  <a:pt x="800" y="526"/>
                </a:cubicBezTo>
                <a:cubicBezTo>
                  <a:pt x="859" y="539"/>
                  <a:pt x="924" y="539"/>
                  <a:pt x="968" y="538"/>
                </a:cubicBezTo>
                <a:cubicBezTo>
                  <a:pt x="1012" y="537"/>
                  <a:pt x="1029" y="527"/>
                  <a:pt x="1064" y="518"/>
                </a:cubicBezTo>
                <a:cubicBezTo>
                  <a:pt x="1099" y="509"/>
                  <a:pt x="1135" y="501"/>
                  <a:pt x="1180" y="482"/>
                </a:cubicBezTo>
                <a:cubicBezTo>
                  <a:pt x="1225" y="463"/>
                  <a:pt x="1284" y="427"/>
                  <a:pt x="1332" y="402"/>
                </a:cubicBezTo>
                <a:cubicBezTo>
                  <a:pt x="1380" y="377"/>
                  <a:pt x="1427" y="353"/>
                  <a:pt x="1468" y="334"/>
                </a:cubicBezTo>
                <a:cubicBezTo>
                  <a:pt x="1509" y="315"/>
                  <a:pt x="1547" y="298"/>
                  <a:pt x="1576" y="286"/>
                </a:cubicBezTo>
                <a:cubicBezTo>
                  <a:pt x="1605" y="274"/>
                  <a:pt x="1612" y="269"/>
                  <a:pt x="1640" y="262"/>
                </a:cubicBezTo>
                <a:cubicBezTo>
                  <a:pt x="1668" y="255"/>
                  <a:pt x="1714" y="247"/>
                  <a:pt x="1744" y="242"/>
                </a:cubicBezTo>
                <a:cubicBezTo>
                  <a:pt x="1774" y="237"/>
                  <a:pt x="1791" y="231"/>
                  <a:pt x="1820" y="230"/>
                </a:cubicBezTo>
                <a:cubicBezTo>
                  <a:pt x="1849" y="229"/>
                  <a:pt x="1875" y="229"/>
                  <a:pt x="1916" y="238"/>
                </a:cubicBezTo>
                <a:cubicBezTo>
                  <a:pt x="1957" y="247"/>
                  <a:pt x="2019" y="267"/>
                  <a:pt x="2068" y="286"/>
                </a:cubicBezTo>
                <a:cubicBezTo>
                  <a:pt x="2117" y="305"/>
                  <a:pt x="2169" y="335"/>
                  <a:pt x="2212" y="354"/>
                </a:cubicBezTo>
                <a:cubicBezTo>
                  <a:pt x="2255" y="373"/>
                  <a:pt x="2293" y="391"/>
                  <a:pt x="2328" y="402"/>
                </a:cubicBezTo>
                <a:cubicBezTo>
                  <a:pt x="2363" y="413"/>
                  <a:pt x="2391" y="417"/>
                  <a:pt x="2424" y="422"/>
                </a:cubicBezTo>
                <a:cubicBezTo>
                  <a:pt x="2457" y="427"/>
                  <a:pt x="2492" y="431"/>
                  <a:pt x="2528" y="430"/>
                </a:cubicBezTo>
                <a:cubicBezTo>
                  <a:pt x="2564" y="429"/>
                  <a:pt x="2599" y="429"/>
                  <a:pt x="2640" y="414"/>
                </a:cubicBezTo>
                <a:cubicBezTo>
                  <a:pt x="2681" y="399"/>
                  <a:pt x="2733" y="367"/>
                  <a:pt x="2772" y="342"/>
                </a:cubicBezTo>
                <a:cubicBezTo>
                  <a:pt x="2811" y="317"/>
                  <a:pt x="2845" y="294"/>
                  <a:pt x="2876" y="266"/>
                </a:cubicBezTo>
                <a:cubicBezTo>
                  <a:pt x="2907" y="238"/>
                  <a:pt x="2931" y="201"/>
                  <a:pt x="2960" y="174"/>
                </a:cubicBezTo>
                <a:cubicBezTo>
                  <a:pt x="2989" y="147"/>
                  <a:pt x="3024" y="127"/>
                  <a:pt x="3052" y="106"/>
                </a:cubicBezTo>
                <a:cubicBezTo>
                  <a:pt x="3080" y="85"/>
                  <a:pt x="3100" y="63"/>
                  <a:pt x="3128" y="46"/>
                </a:cubicBezTo>
                <a:cubicBezTo>
                  <a:pt x="3156" y="29"/>
                  <a:pt x="3187" y="12"/>
                  <a:pt x="3220" y="6"/>
                </a:cubicBezTo>
                <a:cubicBezTo>
                  <a:pt x="3253" y="0"/>
                  <a:pt x="3311" y="9"/>
                  <a:pt x="3328" y="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5040" y="4437000"/>
            <a:ext cx="3774240" cy="368280"/>
          </a:xfrm>
          <a:prstGeom prst="rect">
            <a:avLst/>
          </a:prstGeom>
          <a:solidFill>
            <a:srgbClr val="ffe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lbChiSys scan = glbChiTheta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250960" y="4068360"/>
            <a:ext cx="4140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4392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1989000"/>
            <a:ext cx="968760" cy="64260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yrs 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47880" y="2637000"/>
            <a:ext cx="953280" cy="1021680"/>
            <a:chOff x="4547880" y="2637000"/>
            <a:chExt cx="953280" cy="1021680"/>
          </a:xfrm>
        </p:grpSpPr>
        <p:sp>
          <p:nvSpPr>
            <p:cNvPr id="179" name=""/>
            <p:cNvSpPr/>
            <p:nvPr/>
          </p:nvSpPr>
          <p:spPr>
            <a:xfrm>
              <a:off x="4992480" y="3084480"/>
              <a:ext cx="0" cy="574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7880" y="263700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50920" y="522936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805360"/>
            <a:ext cx="313344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12*0.05, DMQ21*0.0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Q31*0.10, TH23*0.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22360" y="50292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ors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8520" y="162864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87280" y="1171440"/>
            <a:ext cx="6270840" cy="5686560"/>
            <a:chOff x="1187280" y="1171440"/>
            <a:chExt cx="6270840" cy="5686560"/>
          </a:xfrm>
        </p:grpSpPr>
        <p:grpSp>
          <p:nvGrpSpPr>
            <p:cNvPr id="188" name=""/>
            <p:cNvGrpSpPr/>
            <p:nvPr/>
          </p:nvGrpSpPr>
          <p:grpSpPr>
            <a:xfrm>
              <a:off x="1187280" y="1171440"/>
              <a:ext cx="6058080" cy="5686560"/>
              <a:chOff x="1187280" y="1171440"/>
              <a:chExt cx="6058080" cy="568656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171440"/>
                <a:ext cx="6058080" cy="56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195640" y="4014720"/>
                <a:ext cx="4752720" cy="998640"/>
              </a:xfrm>
              <a:custGeom>
                <a:avLst/>
                <a:gdLst/>
                <a:ahLst/>
                <a:rect l="l" t="t" r="r" b="b"/>
                <a:pathLst>
                  <a:path w="3328" h="539">
                    <a:moveTo>
                      <a:pt x="0" y="30"/>
                    </a:moveTo>
                    <a:cubicBezTo>
                      <a:pt x="36" y="42"/>
                      <a:pt x="70" y="58"/>
                      <a:pt x="104" y="74"/>
                    </a:cubicBezTo>
                    <a:cubicBezTo>
                      <a:pt x="138" y="90"/>
                      <a:pt x="170" y="101"/>
                      <a:pt x="204" y="126"/>
                    </a:cubicBezTo>
                    <a:cubicBezTo>
                      <a:pt x="238" y="151"/>
                      <a:pt x="275" y="191"/>
                      <a:pt x="308" y="222"/>
                    </a:cubicBezTo>
                    <a:cubicBezTo>
                      <a:pt x="341" y="253"/>
                      <a:pt x="370" y="282"/>
                      <a:pt x="404" y="310"/>
                    </a:cubicBezTo>
                    <a:cubicBezTo>
                      <a:pt x="438" y="338"/>
                      <a:pt x="477" y="365"/>
                      <a:pt x="512" y="390"/>
                    </a:cubicBezTo>
                    <a:cubicBezTo>
                      <a:pt x="547" y="415"/>
                      <a:pt x="564" y="439"/>
                      <a:pt x="612" y="462"/>
                    </a:cubicBezTo>
                    <a:cubicBezTo>
                      <a:pt x="660" y="485"/>
                      <a:pt x="741" y="513"/>
                      <a:pt x="800" y="526"/>
                    </a:cubicBezTo>
                    <a:cubicBezTo>
                      <a:pt x="859" y="539"/>
                      <a:pt x="924" y="539"/>
                      <a:pt x="968" y="538"/>
                    </a:cubicBezTo>
                    <a:cubicBezTo>
                      <a:pt x="1012" y="537"/>
                      <a:pt x="1029" y="527"/>
                      <a:pt x="1064" y="518"/>
                    </a:cubicBezTo>
                    <a:cubicBezTo>
                      <a:pt x="1099" y="509"/>
                      <a:pt x="1135" y="501"/>
                      <a:pt x="1180" y="482"/>
                    </a:cubicBezTo>
                    <a:cubicBezTo>
                      <a:pt x="1225" y="463"/>
                      <a:pt x="1284" y="427"/>
                      <a:pt x="1332" y="402"/>
                    </a:cubicBezTo>
                    <a:cubicBezTo>
                      <a:pt x="1380" y="377"/>
                      <a:pt x="1427" y="353"/>
                      <a:pt x="1468" y="334"/>
                    </a:cubicBezTo>
                    <a:cubicBezTo>
                      <a:pt x="1509" y="315"/>
                      <a:pt x="1547" y="298"/>
                      <a:pt x="1576" y="286"/>
                    </a:cubicBezTo>
                    <a:cubicBezTo>
                      <a:pt x="1605" y="274"/>
                      <a:pt x="1612" y="269"/>
                      <a:pt x="1640" y="262"/>
                    </a:cubicBezTo>
                    <a:cubicBezTo>
                      <a:pt x="1668" y="255"/>
                      <a:pt x="1714" y="247"/>
                      <a:pt x="1744" y="242"/>
                    </a:cubicBezTo>
                    <a:cubicBezTo>
                      <a:pt x="1774" y="237"/>
                      <a:pt x="1791" y="231"/>
                      <a:pt x="1820" y="230"/>
                    </a:cubicBezTo>
                    <a:cubicBezTo>
                      <a:pt x="1849" y="229"/>
                      <a:pt x="1875" y="229"/>
                      <a:pt x="1916" y="238"/>
                    </a:cubicBezTo>
                    <a:cubicBezTo>
                      <a:pt x="1957" y="247"/>
                      <a:pt x="2019" y="267"/>
                      <a:pt x="2068" y="286"/>
                    </a:cubicBezTo>
                    <a:cubicBezTo>
                      <a:pt x="2117" y="305"/>
                      <a:pt x="2169" y="335"/>
                      <a:pt x="2212" y="354"/>
                    </a:cubicBezTo>
                    <a:cubicBezTo>
                      <a:pt x="2255" y="373"/>
                      <a:pt x="2293" y="391"/>
                      <a:pt x="2328" y="402"/>
                    </a:cubicBezTo>
                    <a:cubicBezTo>
                      <a:pt x="2363" y="413"/>
                      <a:pt x="2391" y="417"/>
                      <a:pt x="2424" y="422"/>
                    </a:cubicBezTo>
                    <a:cubicBezTo>
                      <a:pt x="2457" y="427"/>
                      <a:pt x="2492" y="431"/>
                      <a:pt x="2528" y="430"/>
                    </a:cubicBezTo>
                    <a:cubicBezTo>
                      <a:pt x="2564" y="429"/>
                      <a:pt x="2599" y="429"/>
                      <a:pt x="2640" y="414"/>
                    </a:cubicBezTo>
                    <a:cubicBezTo>
                      <a:pt x="2681" y="399"/>
                      <a:pt x="2733" y="367"/>
                      <a:pt x="2772" y="342"/>
                    </a:cubicBezTo>
                    <a:cubicBezTo>
                      <a:pt x="2811" y="317"/>
                      <a:pt x="2845" y="294"/>
                      <a:pt x="2876" y="266"/>
                    </a:cubicBezTo>
                    <a:cubicBezTo>
                      <a:pt x="2907" y="238"/>
                      <a:pt x="2931" y="201"/>
                      <a:pt x="2960" y="174"/>
                    </a:cubicBezTo>
                    <a:cubicBezTo>
                      <a:pt x="2989" y="147"/>
                      <a:pt x="3024" y="127"/>
                      <a:pt x="3052" y="106"/>
                    </a:cubicBezTo>
                    <a:cubicBezTo>
                      <a:pt x="3080" y="85"/>
                      <a:pt x="3100" y="63"/>
                      <a:pt x="3128" y="46"/>
                    </a:cubicBezTo>
                    <a:cubicBezTo>
                      <a:pt x="3156" y="29"/>
                      <a:pt x="3187" y="12"/>
                      <a:pt x="3220" y="6"/>
                    </a:cubicBezTo>
                    <a:cubicBezTo>
                      <a:pt x="3253" y="0"/>
                      <a:pt x="3311" y="9"/>
                      <a:pt x="3328" y="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7280" y="1844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0000" y="164772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27280" y="225108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360" y="2054160"/>
              <a:ext cx="41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Spectrum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27280" y="26892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0720" y="249228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5yrs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351080"/>
            <a:ext cx="5543640" cy="5314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949800" y="270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sy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659640" y="3213000"/>
          <a:ext cx="1751040" cy="2162160"/>
        </p:xfrm>
        <a:graphic>
          <a:graphicData uri="http://schemas.openxmlformats.org/drawingml/2006/table">
            <a:tbl>
              <a:tblPr/>
              <a:tblGrid>
                <a:gridCol w="1116000"/>
                <a:gridCol w="6350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ath1Mono"/>
                          <a:ea typeface="Math1Mono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73272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05480" y="4221000"/>
            <a:ext cx="3638520" cy="234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5448240" cy="5115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580000" y="184464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23 ( asin(sqrt(0.4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800" y="63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3560" y="4941720"/>
            <a:ext cx="17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 (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d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94720" y="3376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113440" cy="4917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5440" y="33764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ze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n-zero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569" r="0" b="0"/>
          <a:stretch/>
        </p:blipFill>
        <p:spPr>
          <a:xfrm>
            <a:off x="468360" y="1700280"/>
            <a:ext cx="4572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651640" y="2852640"/>
            <a:ext cx="3241440" cy="3710160"/>
            <a:chOff x="5651640" y="2852640"/>
            <a:chExt cx="3241440" cy="3710160"/>
          </a:xfrm>
        </p:grpSpPr>
        <p:grpSp>
          <p:nvGrpSpPr>
            <p:cNvPr id="219" name=""/>
            <p:cNvGrpSpPr/>
            <p:nvPr/>
          </p:nvGrpSpPr>
          <p:grpSpPr>
            <a:xfrm>
              <a:off x="5651640" y="2852640"/>
              <a:ext cx="3241440" cy="3710160"/>
              <a:chOff x="5651640" y="2852640"/>
              <a:chExt cx="3241440" cy="371016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rcRect l="5453" t="0" r="10253" b="0"/>
              <a:stretch/>
            </p:blipFill>
            <p:spPr>
              <a:xfrm>
                <a:off x="6012000" y="2852640"/>
                <a:ext cx="2232000" cy="32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3"/>
              <a:srcRect l="29687" t="13470" r="0" b="0"/>
              <a:stretch/>
            </p:blipFill>
            <p:spPr>
              <a:xfrm>
                <a:off x="5651640" y="6093000"/>
                <a:ext cx="324144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" name=""/>
            <p:cNvSpPr/>
            <p:nvPr/>
          </p:nvSpPr>
          <p:spPr>
            <a:xfrm>
              <a:off x="7310160" y="3284640"/>
              <a:ext cx="1438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h. Schwe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89080" y="2060640"/>
            <a:ext cx="3598560" cy="3455640"/>
            <a:chOff x="1189080" y="2060640"/>
            <a:chExt cx="3598560" cy="3455640"/>
          </a:xfrm>
        </p:grpSpPr>
        <p:sp>
          <p:nvSpPr>
            <p:cNvPr id="224" name=""/>
            <p:cNvSpPr/>
            <p:nvPr/>
          </p:nvSpPr>
          <p:spPr>
            <a:xfrm>
              <a:off x="2882880" y="2060640"/>
              <a:ext cx="1600920" cy="3455640"/>
            </a:xfrm>
            <a:custGeom>
              <a:avLst/>
              <a:gdLst/>
              <a:ahLst/>
              <a:rect l="l" t="t" r="r" b="b"/>
              <a:pathLst>
                <a:path w="585" h="1409">
                  <a:moveTo>
                    <a:pt x="152" y="0"/>
                  </a:moveTo>
                  <a:cubicBezTo>
                    <a:pt x="156" y="15"/>
                    <a:pt x="156" y="33"/>
                    <a:pt x="152" y="45"/>
                  </a:cubicBezTo>
                  <a:cubicBezTo>
                    <a:pt x="148" y="57"/>
                    <a:pt x="139" y="58"/>
                    <a:pt x="128" y="73"/>
                  </a:cubicBezTo>
                  <a:cubicBezTo>
                    <a:pt x="117" y="88"/>
                    <a:pt x="95" y="119"/>
                    <a:pt x="84" y="137"/>
                  </a:cubicBezTo>
                  <a:cubicBezTo>
                    <a:pt x="73" y="155"/>
                    <a:pt x="72" y="166"/>
                    <a:pt x="61" y="181"/>
                  </a:cubicBezTo>
                  <a:cubicBezTo>
                    <a:pt x="50" y="196"/>
                    <a:pt x="26" y="208"/>
                    <a:pt x="16" y="226"/>
                  </a:cubicBezTo>
                  <a:cubicBezTo>
                    <a:pt x="6" y="244"/>
                    <a:pt x="0" y="266"/>
                    <a:pt x="0" y="289"/>
                  </a:cubicBezTo>
                  <a:cubicBezTo>
                    <a:pt x="0" y="312"/>
                    <a:pt x="11" y="345"/>
                    <a:pt x="16" y="362"/>
                  </a:cubicBezTo>
                  <a:cubicBezTo>
                    <a:pt x="21" y="379"/>
                    <a:pt x="19" y="373"/>
                    <a:pt x="32" y="389"/>
                  </a:cubicBezTo>
                  <a:cubicBezTo>
                    <a:pt x="45" y="405"/>
                    <a:pt x="73" y="440"/>
                    <a:pt x="92" y="457"/>
                  </a:cubicBezTo>
                  <a:cubicBezTo>
                    <a:pt x="111" y="474"/>
                    <a:pt x="131" y="482"/>
                    <a:pt x="148" y="493"/>
                  </a:cubicBezTo>
                  <a:cubicBezTo>
                    <a:pt x="165" y="504"/>
                    <a:pt x="179" y="515"/>
                    <a:pt x="192" y="521"/>
                  </a:cubicBezTo>
                  <a:cubicBezTo>
                    <a:pt x="205" y="527"/>
                    <a:pt x="210" y="523"/>
                    <a:pt x="228" y="529"/>
                  </a:cubicBezTo>
                  <a:cubicBezTo>
                    <a:pt x="246" y="535"/>
                    <a:pt x="275" y="547"/>
                    <a:pt x="300" y="557"/>
                  </a:cubicBezTo>
                  <a:cubicBezTo>
                    <a:pt x="325" y="567"/>
                    <a:pt x="351" y="578"/>
                    <a:pt x="378" y="589"/>
                  </a:cubicBezTo>
                  <a:cubicBezTo>
                    <a:pt x="405" y="600"/>
                    <a:pt x="438" y="610"/>
                    <a:pt x="464" y="621"/>
                  </a:cubicBezTo>
                  <a:cubicBezTo>
                    <a:pt x="490" y="632"/>
                    <a:pt x="520" y="643"/>
                    <a:pt x="536" y="653"/>
                  </a:cubicBezTo>
                  <a:cubicBezTo>
                    <a:pt x="552" y="663"/>
                    <a:pt x="552" y="669"/>
                    <a:pt x="560" y="680"/>
                  </a:cubicBezTo>
                  <a:cubicBezTo>
                    <a:pt x="568" y="691"/>
                    <a:pt x="585" y="706"/>
                    <a:pt x="584" y="721"/>
                  </a:cubicBezTo>
                  <a:cubicBezTo>
                    <a:pt x="583" y="736"/>
                    <a:pt x="571" y="757"/>
                    <a:pt x="552" y="773"/>
                  </a:cubicBezTo>
                  <a:cubicBezTo>
                    <a:pt x="533" y="789"/>
                    <a:pt x="499" y="804"/>
                    <a:pt x="469" y="816"/>
                  </a:cubicBezTo>
                  <a:cubicBezTo>
                    <a:pt x="439" y="828"/>
                    <a:pt x="408" y="835"/>
                    <a:pt x="372" y="845"/>
                  </a:cubicBezTo>
                  <a:cubicBezTo>
                    <a:pt x="336" y="855"/>
                    <a:pt x="285" y="864"/>
                    <a:pt x="252" y="877"/>
                  </a:cubicBezTo>
                  <a:cubicBezTo>
                    <a:pt x="219" y="890"/>
                    <a:pt x="196" y="909"/>
                    <a:pt x="172" y="921"/>
                  </a:cubicBezTo>
                  <a:cubicBezTo>
                    <a:pt x="148" y="933"/>
                    <a:pt x="125" y="933"/>
                    <a:pt x="106" y="952"/>
                  </a:cubicBezTo>
                  <a:cubicBezTo>
                    <a:pt x="87" y="971"/>
                    <a:pt x="65" y="1010"/>
                    <a:pt x="56" y="1037"/>
                  </a:cubicBezTo>
                  <a:cubicBezTo>
                    <a:pt x="47" y="1064"/>
                    <a:pt x="47" y="1088"/>
                    <a:pt x="52" y="1113"/>
                  </a:cubicBezTo>
                  <a:cubicBezTo>
                    <a:pt x="57" y="1138"/>
                    <a:pt x="74" y="1161"/>
                    <a:pt x="88" y="1185"/>
                  </a:cubicBezTo>
                  <a:cubicBezTo>
                    <a:pt x="102" y="1209"/>
                    <a:pt x="123" y="1234"/>
                    <a:pt x="136" y="1257"/>
                  </a:cubicBezTo>
                  <a:cubicBezTo>
                    <a:pt x="149" y="1280"/>
                    <a:pt x="159" y="1308"/>
                    <a:pt x="164" y="1325"/>
                  </a:cubicBezTo>
                  <a:cubicBezTo>
                    <a:pt x="169" y="1342"/>
                    <a:pt x="162" y="1347"/>
                    <a:pt x="164" y="1361"/>
                  </a:cubicBezTo>
                  <a:cubicBezTo>
                    <a:pt x="166" y="1375"/>
                    <a:pt x="173" y="1399"/>
                    <a:pt x="176" y="14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9080" y="2060640"/>
              <a:ext cx="3598560" cy="344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 flipV="1">
            <a:off x="3924000" y="422064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64000" y="501336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92120" y="4813200"/>
            <a:ext cx="44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62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94800">
            <a:off x="2276280" y="3348720"/>
            <a:ext cx="1387440" cy="73620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3704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76440" y="184464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21" b="0"/>
          <a:stretch/>
        </p:blipFill>
        <p:spPr>
          <a:xfrm>
            <a:off x="58680" y="2058840"/>
            <a:ext cx="6818400" cy="482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920" y="1936800"/>
            <a:ext cx="689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(Mauro): 5y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40000" cy="23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4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1687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84720" y="0"/>
            <a:ext cx="305928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bChiSys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3160" y="1484280"/>
            <a:ext cx="4471920" cy="3207600"/>
            <a:chOff x="173160" y="1484280"/>
            <a:chExt cx="4471920" cy="3207600"/>
          </a:xfrm>
        </p:grpSpPr>
        <p:grpSp>
          <p:nvGrpSpPr>
            <p:cNvPr id="81" name=""/>
            <p:cNvGrpSpPr/>
            <p:nvPr/>
          </p:nvGrpSpPr>
          <p:grpSpPr>
            <a:xfrm>
              <a:off x="468360" y="1484280"/>
              <a:ext cx="4176720" cy="3038400"/>
              <a:chOff x="468360" y="1484280"/>
              <a:chExt cx="4176720" cy="303840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484280"/>
                <a:ext cx="4176720" cy="303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916360" y="3500280"/>
                <a:ext cx="71280" cy="73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484360" y="3284640"/>
              <a:ext cx="863640" cy="5745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0800" y="2889000"/>
              <a:ext cx="730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2000" y="4286160"/>
              <a:ext cx="68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0360" y="191628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2720" y="2492280"/>
              <a:ext cx="950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x 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347640" y="2859120"/>
              <a:ext cx="144360" cy="216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1280" y="4797360"/>
            <a:ext cx="3097080" cy="1944720"/>
            <a:chOff x="611280" y="4797360"/>
            <a:chExt cx="3097080" cy="19447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0" t="4394" r="0" b="0"/>
            <a:stretch/>
          </p:blipFill>
          <p:spPr>
            <a:xfrm>
              <a:off x="611280" y="4797360"/>
              <a:ext cx="3097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95280" y="492768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11280" y="620640"/>
            <a:ext cx="3384360" cy="13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50.7°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49880" y="44280"/>
            <a:ext cx="3088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1793880"/>
            <a:ext cx="3960720" cy="2643120"/>
            <a:chOff x="4572000" y="1793880"/>
            <a:chExt cx="3960720" cy="26431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0" y="1793880"/>
              <a:ext cx="396072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659640" y="193824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5080" y="3306600"/>
              <a:ext cx="863640" cy="5749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4000" y="3524400"/>
              <a:ext cx="71640" cy="69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5080" y="330660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916360" y="350028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7280" y="1197000"/>
            <a:ext cx="360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Keep same 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 fix 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125360"/>
            <a:ext cx="403236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92280"/>
            <a:ext cx="4249800" cy="41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10120" y="2565360"/>
            <a:ext cx="9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71280" y="2708280"/>
            <a:ext cx="89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38840" y="5518080"/>
            <a:ext cx="7128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91840" y="527688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897520"/>
            <a:ext cx="71640" cy="123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67080" y="5753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324760" cy="493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130760" y="1341360"/>
            <a:ext cx="3858840" cy="368280"/>
            <a:chOff x="1130760" y="1341360"/>
            <a:chExt cx="3858840" cy="368280"/>
          </a:xfrm>
        </p:grpSpPr>
        <p:sp>
          <p:nvSpPr>
            <p:cNvPr id="114" name=""/>
            <p:cNvSpPr/>
            <p:nvPr/>
          </p:nvSpPr>
          <p:spPr>
            <a:xfrm>
              <a:off x="1130760" y="13413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360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016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91040" y="13413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435640" y="2133720"/>
            <a:ext cx="309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fr-FR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0.6,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,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0.3, 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8680" y="558972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uro SPL.glb v1 15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C optim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3213000"/>
            <a:ext cx="2448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ter density: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268280"/>
            <a:ext cx="5153040" cy="493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133720"/>
            <a:ext cx="5018040" cy="2037240"/>
          </a:xfrm>
          <a:prstGeom prst="rect">
            <a:avLst/>
          </a:prstGeom>
          <a:solidFill>
            <a:srgbClr val="ffe3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Mauro glb file + Optimized Fluxes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Mauro glb file + old fluxes            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Times New Roman"/>
              </a:rPr>
              <a:t>Mauro 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Times New Roman"/>
              </a:rPr>
              <a:t>Thomas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66"/>
                </a:solidFill>
                <a:latin typeface="Times New Roman"/>
              </a:rPr>
              <a:t>* : place of the Tru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82" t="0" r="0" b="0"/>
          <a:stretch/>
        </p:blipFill>
        <p:spPr>
          <a:xfrm>
            <a:off x="324000" y="1268280"/>
            <a:ext cx="5184720" cy="4908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916360" y="1844640"/>
            <a:ext cx="2236680" cy="1782720"/>
            <a:chOff x="2916360" y="1844640"/>
            <a:chExt cx="2236680" cy="1782720"/>
          </a:xfrm>
        </p:grpSpPr>
        <p:sp>
          <p:nvSpPr>
            <p:cNvPr id="127" name=""/>
            <p:cNvSpPr/>
            <p:nvPr/>
          </p:nvSpPr>
          <p:spPr>
            <a:xfrm>
              <a:off x="2916360" y="204120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8520" y="184464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6360" y="25192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520" y="232236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6360" y="297792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520" y="278100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34556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8520" y="325908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0360" y="6400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5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340000" cy="200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137" name=""/>
          <p:cNvGrpSpPr/>
          <p:nvPr/>
        </p:nvGrpSpPr>
        <p:grpSpPr>
          <a:xfrm>
            <a:off x="5653800" y="2781360"/>
            <a:ext cx="2950560" cy="1372680"/>
            <a:chOff x="5653800" y="2781360"/>
            <a:chExt cx="2950560" cy="1372680"/>
          </a:xfrm>
        </p:grpSpPr>
        <p:sp>
          <p:nvSpPr>
            <p:cNvPr id="138" name=""/>
            <p:cNvSpPr/>
            <p:nvPr/>
          </p:nvSpPr>
          <p:spPr>
            <a:xfrm>
              <a:off x="6300720" y="2781360"/>
              <a:ext cx="23036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points =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in = 0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ax =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800" y="3213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9440" y="2781360"/>
              <a:ext cx="71280" cy="129708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53800" y="1628640"/>
            <a:ext cx="2013480" cy="794520"/>
            <a:chOff x="5653800" y="1628640"/>
            <a:chExt cx="2013480" cy="794520"/>
          </a:xfrm>
        </p:grpSpPr>
        <p:sp>
          <p:nvSpPr>
            <p:cNvPr id="142" name=""/>
            <p:cNvSpPr/>
            <p:nvPr/>
          </p:nvSpPr>
          <p:spPr>
            <a:xfrm>
              <a:off x="6299280" y="1628640"/>
              <a:ext cx="13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 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3800" y="1844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9440" y="1628640"/>
              <a:ext cx="69480" cy="792000"/>
            </a:xfrm>
            <a:custGeom>
              <a:avLst/>
              <a:gdLst>
                <a:gd name="textAreaLeft" fmla="*/ 44280 w 69480"/>
                <a:gd name="textAreaRight" fmla="*/ 69840 w 694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9:25:54Z</dcterms:created>
  <dc:creator>J.E Campagne</dc:creator>
  <dc:description/>
  <dc:language>en-US</dc:language>
  <cp:lastModifiedBy>J.E Campagne</cp:lastModifiedBy>
  <dcterms:modified xsi:type="dcterms:W3CDTF">2005-07-11T14:11:31Z</dcterms:modified>
  <cp:revision>46</cp:revision>
  <dc:subject/>
  <dc:title>SPL (Mauro): 5y (+)</dc:title>
</cp:coreProperties>
</file>